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6D64-C082-4013-A76A-1C3F526DBF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04DEF-0644-4B15-BBD7-B8B9E4D3D8C8}"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A9C9C-276B-4BDE-827A-4A9A923F7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B7EFD-61B5-4AD8-A1F0-1AA0BB43C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5FB57-5C0E-4F81-A532-DD1F67F50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A705F-C5CC-4763-B540-C683D7D33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CB8705-CBD6-421E-A224-BBAED9286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3CEE4-90F8-48BB-A649-1032D6CAD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FDEF1-6A5A-4E19-B4B3-5992FDC50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7C9FA-43C2-47B9-A52F-F7EA2DF34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D8E3E-C50E-4041-A93B-5F0C98200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0C477-B1DA-45A0-A3C2-216EC80FD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FD2CB-08D8-4BCD-BFB1-7698A7A56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5EDEB-A960-4B3D-B3DC-31AF48F5D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65EF9-97E7-44C7-8523-68F8D5EFC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D887E-2FEA-478D-8C70-F55308F18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D1CE2-70C8-4E62-9C83-1BF22CABC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579E11-832B-47C0-A9C4-C8A3DF14C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33056D-3722-4649-A445-DA1824328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36066-2111-450A-A983-F9E95AEB5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B4613-8B3B-4D15-B8F0-36FD5FF3B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5CDDB-1DAC-418A-A974-D02409204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F97D6-95C8-463E-8645-9636FC3F7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38CD9-9CA1-4C14-9667-06996583D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52A69-AEF4-43AE-B0C5-F9D9D6120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3486E-B62A-4ADF-9780-6D6FA54E4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gd name="textAreaLeft" fmla="*/ 0 w 2897280"/>
              <a:gd name="textAreaRight" fmla="*/ 2897640 w 2897280"/>
              <a:gd name="textAreaTop" fmla="*/ 0 h 6014880"/>
              <a:gd name="textAreaBottom" fmla="*/ 6015240 h 6014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C402-9613-4F9B-9D1F-28571E4AE878}" type="datetime">
              <a:rPr b="0" lang="en-GB"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7307E-D13C-4315-9237-BA812A4B7A73}"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gd name="textAreaLeft" fmla="*/ 0 w 2897280"/>
              <a:gd name="textAreaRight" fmla="*/ 2897640 w 2897280"/>
              <a:gd name="textAreaTop" fmla="*/ 0 h 6014880"/>
              <a:gd name="textAreaBottom" fmla="*/ 6015240 h 6014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ADD9D-D65B-4C1A-A588-75602B3FB87D}" type="datetime">
              <a:rPr b="0" lang="en-GB"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A73AE-0E1B-4B7E-9C13-52968B5E6B5E}"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62357-E04C-4B8B-947F-1CF245EE3956}" type="datetime">
              <a:rPr b="0" lang="en-GB"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93" name="Rectangle 7"/>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94" name="Rectangle 8"/>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B8AE-530D-491A-B9C2-9A634E370AC8}"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cc"/>
                </a:solidFill>
                <a:latin typeface="Arial Narrow"/>
              </a:rPr>
              <a:t>Hitler's Rise to Power</a:t>
            </a:r>
            <a:endParaRPr b="1" lang="en-US" sz="6600" spc="-1" strike="noStrike">
              <a:solidFill>
                <a:srgbClr val="ffffcc"/>
              </a:solidFill>
              <a:latin typeface="Arial Narrow"/>
            </a:endParaRPr>
          </a:p>
        </p:txBody>
      </p:sp>
      <p:sp>
        <p:nvSpPr>
          <p:cNvPr id="96" name="PlaceHolder 2"/>
          <p:cNvSpPr>
            <a:spLocks noGrp="1"/>
          </p:cNvSpPr>
          <p:nvPr>
            <p:ph type="subTitle"/>
          </p:nvPr>
        </p:nvSpPr>
        <p:spPr>
          <a:xfrm>
            <a:off x="4191120" y="1828440"/>
            <a:ext cx="4572000" cy="342900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verview of the causes of Hitler’s rise to power in Germany.</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Note: this presentation provides only a brief overview of the reasons for Hitler’s Rise, each element of the slideshow will also be taught in depth</a:t>
            </a:r>
            <a:endParaRPr b="0" lang="en-US" sz="1400" spc="-1" strike="noStrike">
              <a:solidFill>
                <a:srgbClr val="ffffff"/>
              </a:solidFill>
              <a:latin typeface="Arial"/>
            </a:endParaRPr>
          </a:p>
        </p:txBody>
      </p:sp>
      <p:sp>
        <p:nvSpPr>
          <p:cNvPr id="97" name="Text Box 9"/>
          <p:cNvSpPr/>
          <p:nvPr/>
        </p:nvSpPr>
        <p:spPr>
          <a:xfrm>
            <a:off x="152280" y="5486400"/>
            <a:ext cx="24386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Tahoma"/>
              </a:rPr>
              <a:t>By Mr Moorhouse</a:t>
            </a:r>
            <a:br>
              <a:rPr sz="1800"/>
            </a:br>
            <a:r>
              <a:rPr b="0" lang="en-GB" sz="1400" spc="-1" strike="noStrike">
                <a:solidFill>
                  <a:srgbClr val="ffffff"/>
                </a:solidFill>
                <a:latin typeface="Tahoma"/>
              </a:rPr>
              <a:t>www.SchoolHistory.co.uk www.SchoolsHistory.org.uk</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D439D-5D47-4179-B68A-F39DE722FA04}" type="datetime">
              <a:rPr b="0" lang="en-GB"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39"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4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5A60C-5F99-4BF0-B0EE-648D06C2D69C}"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4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Into government (1)</a:t>
            </a:r>
            <a:endParaRPr b="1" lang="en-US" sz="4800" spc="-1" strike="noStrike">
              <a:solidFill>
                <a:srgbClr val="ffffcc"/>
              </a:solidFill>
              <a:latin typeface="Arial Narrow"/>
            </a:endParaRPr>
          </a:p>
        </p:txBody>
      </p:sp>
      <p:sp>
        <p:nvSpPr>
          <p:cNvPr id="14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azi’s use force to prevent uprisings</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hetoric plays on peoples fears</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g Business won over through radical economic plans</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mphasis placed on military power wins support of many soldiers and traditionalists.</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eak coalition governments enables Nazi’s to gain political strength</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paganda and shows of might impress the masse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42">
                                            <p:txEl>
                                              <p:pRg st="4" end="4"/>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B08C-F300-4A3E-83B5-7367A0188321}" type="datetime">
              <a:rPr b="0" lang="en-GB"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44"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4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65531-526B-46CA-98F3-BB19015C84A4}"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4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Into Government (2)</a:t>
            </a:r>
            <a:endParaRPr b="1" lang="en-US" sz="4800" spc="-1" strike="noStrike">
              <a:solidFill>
                <a:srgbClr val="ffffcc"/>
              </a:solidFill>
              <a:latin typeface="Arial Narrow"/>
            </a:endParaRPr>
          </a:p>
        </p:txBody>
      </p:sp>
      <p:sp>
        <p:nvSpPr>
          <p:cNvPr id="14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lectoral support rises: Nazi’s become largest single party in the Reichstag</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tinuing economic crisis leads to break down of coalitions</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ging and ineffective president increasingly reliant upon Article 48</a:t>
            </a:r>
            <a:endParaRPr b="0" lang="en-US" sz="2800" spc="-1" strike="noStrike">
              <a:solidFill>
                <a:srgbClr val="ffffff"/>
              </a:solidFill>
              <a:latin typeface="Arial"/>
            </a:endParaRPr>
          </a:p>
          <a:p>
            <a:pPr marL="343080" indent="-34308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rmany in desperate need of a strong lea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47">
                                            <p:txEl>
                                              <p:pRg st="0" end="0"/>
                                            </p:txEl>
                                          </p:spTgt>
                                        </p:tgtEl>
                                        <p:attrNameLst>
                                          <p:attrName>style.visibility</p:attrName>
                                        </p:attrNameLst>
                                      </p:cBhvr>
                                      <p:to>
                                        <p:strVal val="visible"/>
                                      </p:to>
                                    </p:set>
                                    <p:anim calcmode="lin" valueType="num">
                                      <p:cBhvr additive="base">
                                        <p:cTn id="193"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47">
                                            <p:txEl>
                                              <p:pRg st="1" end="1"/>
                                            </p:txEl>
                                          </p:spTgt>
                                        </p:tgtEl>
                                        <p:attrNameLst>
                                          <p:attrName>style.visibility</p:attrName>
                                        </p:attrNameLst>
                                      </p:cBhvr>
                                      <p:to>
                                        <p:strVal val="visible"/>
                                      </p:to>
                                    </p:set>
                                    <p:anim calcmode="lin" valueType="num">
                                      <p:cBhvr additive="base">
                                        <p:cTn id="199"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47">
                                            <p:txEl>
                                              <p:pRg st="2" end="2"/>
                                            </p:txEl>
                                          </p:spTgt>
                                        </p:tgtEl>
                                        <p:attrNameLst>
                                          <p:attrName>style.visibility</p:attrName>
                                        </p:attrNameLst>
                                      </p:cBhvr>
                                      <p:to>
                                        <p:strVal val="visible"/>
                                      </p:to>
                                    </p:set>
                                    <p:anim calcmode="lin" valueType="num">
                                      <p:cBhvr additive="base">
                                        <p:cTn id="205"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47">
                                            <p:txEl>
                                              <p:pRg st="3" end="3"/>
                                            </p:txEl>
                                          </p:spTgt>
                                        </p:tgtEl>
                                        <p:attrNameLst>
                                          <p:attrName>style.visibility</p:attrName>
                                        </p:attrNameLst>
                                      </p:cBhvr>
                                      <p:to>
                                        <p:strVal val="visible"/>
                                      </p:to>
                                    </p:set>
                                    <p:anim calcmode="lin" valueType="num">
                                      <p:cBhvr additive="base">
                                        <p:cTn id="211"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A9C3-AF84-4170-8FAF-150E369B1443}" type="datetime">
              <a:rPr b="0" lang="en-GB"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49"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5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D62AF-40E4-49FF-BA96-2FECCE681EDE}"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In Power</a:t>
            </a:r>
            <a:endParaRPr b="1" lang="en-US" sz="4800" spc="-1" strike="noStrike">
              <a:solidFill>
                <a:srgbClr val="ffffcc"/>
              </a:solidFill>
              <a:latin typeface="Arial Narrow"/>
            </a:endParaRPr>
          </a:p>
        </p:txBody>
      </p:sp>
      <p:sp>
        <p:nvSpPr>
          <p:cNvPr id="1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vited to become chancellor by politicians who believe that Hitler can be manipulated easil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esident Hindenburg’s death allows Hitler to assume presidential power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azi Party’s rise to power is comple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DB8A-0A2F-4488-B3C6-0B1C53E3AB4B}" type="datetime">
              <a:rPr b="0" lang="en-GB"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54"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5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A111E-9B0B-4948-A132-E87B6F0BBFED}"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Rise to power: an overview</a:t>
            </a:r>
            <a:endParaRPr b="1" lang="en-US" sz="4800" spc="-1" strike="noStrike">
              <a:solidFill>
                <a:srgbClr val="ffffcc"/>
              </a:solidFill>
              <a:latin typeface="Arial Narrow"/>
            </a:endParaRPr>
          </a:p>
        </p:txBody>
      </p:sp>
      <p:sp>
        <p:nvSpPr>
          <p:cNvPr id="15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rong leadership</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rmination</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pular Rhetoric and Hitler’s capabilities as a public speaker</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eakness of Coalition government</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ll Street Crash and the consequent economic collapse</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of significant businessmen</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sruption of extremist opponents</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ar of Communism</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57">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57">
                                            <p:txEl>
                                              <p:pRg st="6" end="6"/>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BBAE-4FCF-428A-ACB1-4BAC46DADA5E}" type="datetime">
              <a:rPr b="0" lang="en-GB"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99"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0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3F112-B9B7-434C-B5F9-F3B459E98316}"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Objectives</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the end of this lesson you should be able to:</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dentify and explain a number of factors that led to the rise of the Nazi part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cognise that no single factor led to Hitler’s rise</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1CB9-D72F-4649-8A8E-3E908206AD74}" type="datetime">
              <a:rPr b="0" lang="en-GB"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04"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0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70017-DDCA-45F4-8F02-23718B96EB01}"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Overview</a:t>
            </a:r>
            <a:r>
              <a:rPr b="1" lang="en-GB"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0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Nazi Party was formed in 1919</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tler joined the party shortly after it’s inceptio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rmany was in a state of disarray after the First World War</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were many extremist groups in Germany at the time</a:t>
            </a:r>
            <a:endParaRPr b="0" lang="en-US" sz="28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AC4D8-5E2D-49E8-87FE-AB98B6850E3E}" type="datetime">
              <a:rPr b="0" lang="en-GB"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09"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1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C08C7-C396-467A-A77F-B3E251BF7666}"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1919-1923</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ny Germans were disillusioned after the defeat in the First World war. Ex-soldiers felt that they had been ‘Stabbed in the back’ and felt that they had not been defeated on the battlefield.Many of them joined Right Wing groups such as the Freikorps or the Nazi party.</a:t>
            </a:r>
            <a:endParaRPr b="0" lang="en-US" sz="2000" spc="-1" strike="noStrike">
              <a:solidFill>
                <a:srgbClr val="ffffff"/>
              </a:solidFill>
              <a:latin typeface="Arial"/>
            </a:endParaRPr>
          </a:p>
          <a:p>
            <a:pPr marL="339480" indent="-33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Spartacist rising, amongst others, led to many people fearing a Communist revolution in Germany. People looked to right Wing groups to act against this: the Freikorps in particular.</a:t>
            </a:r>
            <a:endParaRPr b="0" lang="en-US" sz="2000" spc="-1" strike="noStrike">
              <a:solidFill>
                <a:srgbClr val="ffffff"/>
              </a:solidFill>
              <a:latin typeface="Arial"/>
            </a:endParaRPr>
          </a:p>
          <a:p>
            <a:pPr marL="339480" indent="-3394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conomic hardship was coupled with humiliation as a result of the terms of the Treaty of Versailles. Right Wing groups gained popularity by saying that they would not adhere to it’s terms.</a:t>
            </a:r>
            <a:endParaRPr b="0" lang="en-US" sz="20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2">
                                            <p:txEl>
                                              <p:pRg st="0" end="0"/>
                                            </p:txEl>
                                          </p:spTgt>
                                        </p:tgtEl>
                                        <p:attrNameLst>
                                          <p:attrName>style.visibility</p:attrName>
                                        </p:attrNameLst>
                                      </p:cBhvr>
                                      <p:to>
                                        <p:strVal val="visible"/>
                                      </p:to>
                                    </p:set>
                                    <p:anim calcmode="lin" valueType="num">
                                      <p:cBhvr additive="base">
                                        <p:cTn id="39"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2">
                                            <p:txEl>
                                              <p:pRg st="1" end="1"/>
                                            </p:txEl>
                                          </p:spTgt>
                                        </p:tgtEl>
                                        <p:attrNameLst>
                                          <p:attrName>style.visibility</p:attrName>
                                        </p:attrNameLst>
                                      </p:cBhvr>
                                      <p:to>
                                        <p:strVal val="visible"/>
                                      </p:to>
                                    </p:set>
                                    <p:anim calcmode="lin" valueType="num">
                                      <p:cBhvr additive="base">
                                        <p:cTn id="45"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2">
                                            <p:txEl>
                                              <p:pRg st="2" end="2"/>
                                            </p:txEl>
                                          </p:spTgt>
                                        </p:tgtEl>
                                        <p:attrNameLst>
                                          <p:attrName>style.visibility</p:attrName>
                                        </p:attrNameLst>
                                      </p:cBhvr>
                                      <p:to>
                                        <p:strVal val="visible"/>
                                      </p:to>
                                    </p:set>
                                    <p:anim calcmode="lin" valueType="num">
                                      <p:cBhvr additive="base">
                                        <p:cTn id="51"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0E26-8A3A-43F6-9A26-7E9BAB00E289}" type="datetime">
              <a:rPr b="0" lang="en-GB"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14"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1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7B65D-C35D-4C86-BF80-33E736BD1966}"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16" name="PlaceHolder 1"/>
          <p:cNvSpPr>
            <a:spLocks noGrp="1"/>
          </p:cNvSpPr>
          <p:nvPr>
            <p:ph type="title"/>
          </p:nvPr>
        </p:nvSpPr>
        <p:spPr>
          <a:xfrm>
            <a:off x="2819160" y="533520"/>
            <a:ext cx="609588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cc"/>
                </a:solidFill>
                <a:latin typeface="Arial Narrow"/>
              </a:rPr>
              <a:t>How did the Nazi party gain support in this period?</a:t>
            </a:r>
            <a:br>
              <a:rPr sz="3200"/>
            </a:br>
            <a:endParaRPr b="1" lang="en-US" sz="3200" spc="-1" strike="noStrike">
              <a:solidFill>
                <a:srgbClr val="ffffcc"/>
              </a:solidFill>
              <a:latin typeface="Arial Narrow"/>
            </a:endParaRPr>
          </a:p>
        </p:txBody>
      </p:sp>
      <p:sp>
        <p:nvSpPr>
          <p:cNvPr id="11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litary uniforms demonstrated strength at a time when the government was weak</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of force against communists and Trade unionists was popular with businesses</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pulist policies and rhetoric were employed to discredit opponents and develop support.</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ferences to traditional values and reminders of ‘Who was to blame’ for the economic crisis builds suppor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4D97-F12B-4C5A-8D96-C0697F7E93E8}" type="datetime">
              <a:rPr b="0" lang="en-GB"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19"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2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A94A-CD8F-4536-A87E-037FF538C3BE}"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1923: Violent uprising</a:t>
            </a:r>
            <a:endParaRPr b="1" lang="en-US" sz="4800" spc="-1" strike="noStrike">
              <a:solidFill>
                <a:srgbClr val="ffffcc"/>
              </a:solidFill>
              <a:latin typeface="Arial Narrow"/>
            </a:endParaRPr>
          </a:p>
        </p:txBody>
      </p:sp>
      <p:sp>
        <p:nvSpPr>
          <p:cNvPr id="12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1923 the Nazi party had gained much support in Bavaria. Now firmly under the control of Adolf Hitler the group attempts to seize control of the government through use of force.</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spite having many sympathisers the coup fails and Hitler is imprisoned.</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ailure of the Beer Hall Putsch demonstrates that power needs to be taken through legal means. </a:t>
            </a:r>
            <a:endParaRPr b="0" lang="en-US" sz="20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22">
                                            <p:txEl>
                                              <p:pRg st="0" end="0"/>
                                            </p:txEl>
                                          </p:spTgt>
                                        </p:tgtEl>
                                        <p:attrNameLst>
                                          <p:attrName>style.visibility</p:attrName>
                                        </p:attrNameLst>
                                      </p:cBhvr>
                                      <p:to>
                                        <p:strVal val="visible"/>
                                      </p:to>
                                    </p:set>
                                    <p:anim calcmode="lin" valueType="num">
                                      <p:cBhvr additive="base">
                                        <p:cTn id="7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2">
                                            <p:txEl>
                                              <p:pRg st="1" end="1"/>
                                            </p:txEl>
                                          </p:spTgt>
                                        </p:tgtEl>
                                        <p:attrNameLst>
                                          <p:attrName>style.visibility</p:attrName>
                                        </p:attrNameLst>
                                      </p:cBhvr>
                                      <p:to>
                                        <p:strVal val="visible"/>
                                      </p:to>
                                    </p:set>
                                    <p:anim calcmode="lin" valueType="num">
                                      <p:cBhvr additive="base">
                                        <p:cTn id="83"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2">
                                            <p:txEl>
                                              <p:pRg st="2" end="2"/>
                                            </p:txEl>
                                          </p:spTgt>
                                        </p:tgtEl>
                                        <p:attrNameLst>
                                          <p:attrName>style.visibility</p:attrName>
                                        </p:attrNameLst>
                                      </p:cBhvr>
                                      <p:to>
                                        <p:strVal val="visible"/>
                                      </p:to>
                                    </p:set>
                                    <p:anim calcmode="lin" valueType="num">
                                      <p:cBhvr additive="base">
                                        <p:cTn id="89"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697FF-E6D2-443C-AA34-C00C8DDE28E4}" type="datetime">
              <a:rPr b="0" lang="en-GB"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24"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2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BD88-441A-420F-995C-F9C876142AF0}"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Regrouping</a:t>
            </a:r>
            <a:endParaRPr b="1" lang="en-US" sz="4800" spc="-1" strike="noStrike">
              <a:solidFill>
                <a:srgbClr val="ffffcc"/>
              </a:solidFill>
              <a:latin typeface="Arial Narrow"/>
            </a:endParaRPr>
          </a:p>
        </p:txBody>
      </p:sp>
      <p:sp>
        <p:nvSpPr>
          <p:cNvPr id="12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ilst in prison Hitler analyses the parties strateg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litical Strategies are developed and refined</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hift to winning electoral support </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velopment of propaganda tool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tempts to win support of big busines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27">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064E0-7FC1-46CF-973A-9ABF43A3CA18}" type="datetime">
              <a:rPr b="0" lang="en-GB"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29"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30"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93B38-6F28-499E-8476-CF9DB5366369}"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3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1924-1929</a:t>
            </a:r>
            <a:endParaRPr b="1" lang="en-US" sz="4800" spc="-1" strike="noStrike">
              <a:solidFill>
                <a:srgbClr val="ffffcc"/>
              </a:solidFill>
              <a:latin typeface="Arial Narrow"/>
            </a:endParaRPr>
          </a:p>
        </p:txBody>
      </p:sp>
      <p:sp>
        <p:nvSpPr>
          <p:cNvPr id="13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cus on traditional valu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uilds fear of Left Wing group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tinued use of military imager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ack of electoral support due to relative prosperity in Germany at the tim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4">
                                  <p:stCondLst>
                                    <p:cond delay="0"/>
                                  </p:stCondLst>
                                  <p:childTnLst>
                                    <p:set>
                                      <p:cBhvr>
                                        <p:cTn id="118" dur="1" fill="hold">
                                          <p:stCondLst>
                                            <p:cond delay="0"/>
                                          </p:stCondLst>
                                        </p:cTn>
                                        <p:tgtEl>
                                          <p:spTgt spid="132">
                                            <p:txEl>
                                              <p:pRg st="0" end="0"/>
                                            </p:txEl>
                                          </p:spTgt>
                                        </p:tgtEl>
                                        <p:attrNameLst>
                                          <p:attrName>style.visibility</p:attrName>
                                        </p:attrNameLst>
                                      </p:cBhvr>
                                      <p:to>
                                        <p:strVal val="visible"/>
                                      </p:to>
                                    </p:set>
                                    <p:anim calcmode="lin" valueType="num">
                                      <p:cBhvr additive="base">
                                        <p:cTn id="119" dur="5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20" dur="50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4">
                                  <p:stCondLst>
                                    <p:cond delay="0"/>
                                  </p:stCondLst>
                                  <p:childTnLst>
                                    <p:set>
                                      <p:cBhvr>
                                        <p:cTn id="124" dur="1" fill="hold">
                                          <p:stCondLst>
                                            <p:cond delay="0"/>
                                          </p:stCondLst>
                                        </p:cTn>
                                        <p:tgtEl>
                                          <p:spTgt spid="132">
                                            <p:txEl>
                                              <p:pRg st="1" end="1"/>
                                            </p:txEl>
                                          </p:spTgt>
                                        </p:tgtEl>
                                        <p:attrNameLst>
                                          <p:attrName>style.visibility</p:attrName>
                                        </p:attrNameLst>
                                      </p:cBhvr>
                                      <p:to>
                                        <p:strVal val="visible"/>
                                      </p:to>
                                    </p:set>
                                    <p:anim calcmode="lin" valueType="num">
                                      <p:cBhvr additive="base">
                                        <p:cTn id="125" dur="50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126" dur="50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132">
                                            <p:txEl>
                                              <p:pRg st="2" end="2"/>
                                            </p:txEl>
                                          </p:spTgt>
                                        </p:tgtEl>
                                        <p:attrNameLst>
                                          <p:attrName>style.visibility</p:attrName>
                                        </p:attrNameLst>
                                      </p:cBhvr>
                                      <p:to>
                                        <p:strVal val="visible"/>
                                      </p:to>
                                    </p:set>
                                    <p:anim calcmode="lin" valueType="num">
                                      <p:cBhvr additive="base">
                                        <p:cTn id="131" dur="50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132" dur="50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7" presetSubtype="4">
                                  <p:stCondLst>
                                    <p:cond delay="0"/>
                                  </p:stCondLst>
                                  <p:childTnLst>
                                    <p:set>
                                      <p:cBhvr>
                                        <p:cTn id="136" dur="1" fill="hold">
                                          <p:stCondLst>
                                            <p:cond delay="0"/>
                                          </p:stCondLst>
                                        </p:cTn>
                                        <p:tgtEl>
                                          <p:spTgt spid="132">
                                            <p:txEl>
                                              <p:pRg st="3" end="3"/>
                                            </p:txEl>
                                          </p:spTgt>
                                        </p:tgtEl>
                                        <p:attrNameLst>
                                          <p:attrName>style.visibility</p:attrName>
                                        </p:attrNameLst>
                                      </p:cBhvr>
                                      <p:to>
                                        <p:strVal val="visible"/>
                                      </p:to>
                                    </p:set>
                                    <p:anim calcmode="lin" valueType="num">
                                      <p:cBhvr additive="base">
                                        <p:cTn id="137" dur="5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138" dur="50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Date Placeholder 3"/>
          <p:cNvSpPr/>
          <p:nvPr/>
        </p:nvSpPr>
        <p:spPr>
          <a:xfrm>
            <a:off x="304920" y="6248520"/>
            <a:ext cx="190476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EAFDB-5AB9-4F94-B510-C046A7054035}" type="datetime">
              <a:rPr b="0" lang="en-GB"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134" name="Footer Placeholder 4"/>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eimar and Nazi Germany</a:t>
            </a:r>
            <a:endParaRPr b="0" lang="en-US" sz="1400" spc="-1" strike="noStrike">
              <a:solidFill>
                <a:srgbClr val="ffffff"/>
              </a:solidFill>
              <a:latin typeface="Times New Roman"/>
            </a:endParaRPr>
          </a:p>
        </p:txBody>
      </p:sp>
      <p:sp>
        <p:nvSpPr>
          <p:cNvPr id="135" name="Slide Number Placeholder 5"/>
          <p:cNvSpPr/>
          <p:nvPr/>
        </p:nvSpPr>
        <p:spPr>
          <a:xfrm>
            <a:off x="70102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4F8B6-E846-4FB3-A5F5-F6990E56BBD2}"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36" name="PlaceHolder 1"/>
          <p:cNvSpPr>
            <a:spLocks noGrp="1"/>
          </p:cNvSpPr>
          <p:nvPr>
            <p:ph type="title"/>
          </p:nvPr>
        </p:nvSpPr>
        <p:spPr>
          <a:xfrm>
            <a:off x="2819160" y="609120"/>
            <a:ext cx="60958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1929-1932 A Change in Fortunes</a:t>
            </a:r>
            <a:endParaRPr b="1" lang="en-US" sz="4800" spc="-1" strike="noStrike">
              <a:solidFill>
                <a:srgbClr val="ffffcc"/>
              </a:solidFill>
              <a:latin typeface="Arial Narrow"/>
            </a:endParaRPr>
          </a:p>
        </p:txBody>
      </p:sp>
      <p:sp>
        <p:nvSpPr>
          <p:cNvPr id="13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all Street Crash leads to end of effective financial assistance from USA</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employment rises rapidly</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yperinflation recur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reat of Communism increases</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alition government fails to address problems successful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10-03-12T08:07:53Z</dcterms:modified>
  <cp:revision>5</cp:revision>
  <dc:subject/>
  <dc:title>PowerPoint Presentation</dc:title>
</cp:coreProperties>
</file>